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141-89E6-44E0-8B50-AABAD848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ABE-B6E5-4FE1-A8C5-C94FFAAD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C7C-C295-4AA4-BA1F-81F66C1B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5023-6DDF-48CD-8399-B6F6D572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07CB-93CD-4A9F-82DA-F60A0AB9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6909-27EC-4C19-8898-36BE91D3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827C-07D6-4F02-A4EE-B890226D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A3C5-FD3B-4A6C-8DCB-4770AB26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59CB-5084-47C9-AA37-D8AE29F6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9319-7143-451A-9A46-DAA48E52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7EBE-6BC5-4290-8F43-B350EA3A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539-94DC-47D0-8F8B-27906ECD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E3DC-889B-4087-9BDC-E38743D2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4EE5-F3EB-4A21-A0A2-1CEADE2E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318D-51D3-43A8-88DF-3AD174E4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13C9-713D-4431-906E-7B9E0B1D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2C14-AD3B-402B-98C5-4BE95B5B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CCD-D442-41F4-B020-DBED4795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EF18-75CE-44C2-959D-104BE21D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8AF-08C9-4C11-BE6F-44295967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A18-8DF4-4A6C-B679-521490A7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A95-B92E-4BF7-810F-C542CDA4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23D-CC28-43DB-9764-81C88725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484-B89C-4630-8FB1-49FBED99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6A21-A2C4-4483-9C02-DCB1B14C520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03CD-9F53-4FE6-A5F2-529C35FE531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3141360"/>
            <a:ext cx="8209080" cy="26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сударственная итоговая аттестация - 2024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987640" y="250920"/>
            <a:ext cx="468000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2f5897"/>
              </a:solidFill>
              <a:latin typeface="Times New Roman"/>
              <a:ea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0240" y="-12600"/>
            <a:ext cx="911376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Расписание ОГЭ (основной период)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18D8-E18D-49E5-8C73-155083ECF1E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Будет позже. Май-июнь 2023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5" name="Picture 2" descr="C:\Users\Учитель\Desktop\slide_14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тоговое собеседование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85880" y="1500120"/>
            <a:ext cx="78184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ДНО ИЗ УСЛОВИЙ ДОПУСКА. </a:t>
            </a: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Собеседование по русскому языку: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навыки учеников в устном выражении мыслей, поэтому данная форма контроля предусматривает всего 15 минут на каждого девятиклассника. Вторая среда февраля</a:t>
            </a:r>
            <a:br>
              <a:rPr sz="2000"/>
            </a:b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8" name="Picture 7" descr="C:\Users\учитель\Desktop\is-gia-9.png"/>
          <p:cNvPicPr/>
          <p:nvPr/>
        </p:nvPicPr>
        <p:blipFill>
          <a:blip r:embed="rId1"/>
          <a:stretch/>
        </p:blipFill>
        <p:spPr>
          <a:xfrm>
            <a:off x="1785960" y="4000680"/>
            <a:ext cx="59720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.Допуск обучающихся в ППЭ осуществляется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 налич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у них документов, удостоверяющих их личность, и при наличии их в списках распределения в данный ППЭ в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9.00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по местному времен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2. На входе – контроль за отсутствием запрещенных средств (металлоискатель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3. Согласно спискам распределения на информационном стенде участник ГИ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пределяет аудиторию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 которую он распределен на экзамен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4240" y="1600200"/>
            <a:ext cx="797256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сли участник ГИА опоздал на экзамен, он допускается к сдаче ГИА в установленном порядке, при этом время окончания экзамена не продлевается, о чем сообщается участнику ГИА. Если аудиозапись включена – по окончани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763640" y="3860640"/>
            <a:ext cx="5243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на рабочем столе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учающегося, помимо ЭМ, находятся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) ручка (гелевая или капиллярная с чернилами черного цвета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б) документ, удостоверяющий личност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) средства обучения и воспитан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г) лекарства и питание (при необходимости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) специальные технические средства (для лиц, с ОВЗ)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е)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черновик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, выданные в ППЭ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ЛЯ ПРОХОЖДЕНИЯ В ППЭ УЧАЩИЕСЯ ДОЛЖНЫ ИМЕТЬ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27" name="Picture 3" descr="C:\Users\User\Desktop\Новая папка\th2D48H6KP.jpg"/>
          <p:cNvPicPr/>
          <p:nvPr/>
        </p:nvPicPr>
        <p:blipFill>
          <a:blip r:embed="rId1"/>
          <a:stretch/>
        </p:blipFill>
        <p:spPr>
          <a:xfrm>
            <a:off x="5076720" y="1916280"/>
            <a:ext cx="2735280" cy="280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:\Users\User\Desktop\Новая папка\th7FUY4ZVY.jpg"/>
          <p:cNvPicPr/>
          <p:nvPr/>
        </p:nvPicPr>
        <p:blipFill>
          <a:blip r:embed="rId2"/>
          <a:stretch/>
        </p:blipFill>
        <p:spPr>
          <a:xfrm>
            <a:off x="395280" y="2023920"/>
            <a:ext cx="4202280" cy="302580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6"/>
          <p:cNvSpPr/>
          <p:nvPr/>
        </p:nvSpPr>
        <p:spPr>
          <a:xfrm>
            <a:off x="6156360" y="4076640"/>
            <a:ext cx="2519280" cy="22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4455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чка черного цв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елев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680" y="55008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 время проведения экзамена в ППЭ запрещает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ять экзаменационную работу несамостоятельно,в том числе с помощью посторонних лиц, общаться с другими участниками ГИА во время проведения экзамена в аудитории, иметь при себе средства связи, фото-,аудио- и видеоаппаратуру, электронно-вычислительную технику, справочные материалы, письменные заметки и иные средства хранения и передачи информации, выносить из аудиторий и ППЭ черновики, экзаменационные материалы на бумажном и (или)электронном носителях, фотографировать экзаменационные материалы, черновики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7. До начала экзамена организаторы проводят инструктаж.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8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торы выдают обучающимся ИК, которые включают в себя КИМ, листы (бланки) для записи отве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9. По завершении заполнения регистрационных полей экзаменационной работы всеми обучающимися и проверки их организаторами организаторы объявляют время начала и завершения выполнения экзаменационной работы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сновные нормативно- правовые документ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№273-ФЗ «Об образовании в РФ» от 29.12.2012 г.(ст. 53,19,30)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ПРОСВЕЩЕНИЯ РОССИИ и Федеральной службы по надзору в сфере образования и науки от 04.04.2023 г. № 232/551 «Об утверждении Порядка проведения государственной итоговой аттестации по образовательным программам основного общего образования»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136440" algn="just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0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 время экзамена участники ГИА не имеют права общаться друг с другом, свободно перемещаться по аудитории и ППЭ. Выходить во время экзамена из аудитории участник ГИА может  с разрешения организатора, а перемещаться по ППЭ - в сопровождении организатора вне аудитории. При выходе из аудитории обучающиеся оставляют ЭМ, письменные принадлежности и черновики на рабочем столе, а организатор проверяет комплектность оставленных Э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42600" y="1428840"/>
            <a:ext cx="8015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1.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ца, допустившие нарушение установленного порядка проведения ГИА,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даляютс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с экзамена. Если факт нарушения участником ГИА  порядка проведения экзамена подтверждается, ГЭК принимает решение об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аннулирован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результатов участника экзамена по соответствующему учебному предмету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1949400" y="4365720"/>
            <a:ext cx="5243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428840"/>
            <a:ext cx="81439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12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 В случае если участник ГИА по состоянию здоровья или другим объективным причинам не может завершить выполнение экзаменационной работы, он досрочно покидает аудиторию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2413080" y="3645000"/>
            <a:ext cx="64659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рядок ГИА в ППЭ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3. За 30 минут и за 5 минут до окончания выполнения экзаменационной работы организаторы сообщают обучающимся о скором завершении экзамена и напоминают о необходимости перенести ответы из черновиков в бланки ГИ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14. По истечении выполнения экзаменационной работы организаторы объявляют окончание экзамена и собирают ЭМ уобучающихс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42960" y="1600200"/>
            <a:ext cx="804384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арушении установленного порядка 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проведения ЕГЭ не покидая ППЭ – руководителю ППЭ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пеляция о несогласии с выставленными баллами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двух рабочих дней со дня объявления результатов – директору школы или непосредственно в конфликтную комисс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дача аппеляц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Picture 2" descr="C:\Users\учитель\Desktop\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ОРУДОВАНИЕ ПП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052280"/>
            <a:ext cx="82504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е или переносны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оискател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еонаблюдения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50" name="Picture 6" descr="C:\Users\учитель\Desktop\VN_07_s.png"/>
          <p:cNvPicPr/>
          <p:nvPr/>
        </p:nvPicPr>
        <p:blipFill>
          <a:blip r:embed="rId1"/>
          <a:stretch/>
        </p:blipFill>
        <p:spPr>
          <a:xfrm>
            <a:off x="2928960" y="2633760"/>
            <a:ext cx="50720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ЗУЛЬТАТЫ ОГЭ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в первичных баллах (сумма баллов за правильно выполненные задания экзаменационной работы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аменационная работа оценивается по пятибалльной системе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проверки (не более 10 дней). График будет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ение результатов осуществляется ГЭК в течение 1-го рабочего дня с момента получения итогов централизованной проверк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99680" y="1142640"/>
            <a:ext cx="81867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 проверка экзаменационных работ занимает не более 10 календарных дней.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е обучающихся с результатами ГИА по учебному предмету осуществляется в течение одного рабочего дня со дня их передачи в МАОУ НТГО «СОШ №2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результаты в первичных баллах (сумма баллов за правильно выполненные задания экзаменационной работы) РЦОИ переводит в пятибалльную систему оценива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8676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роверка экзаменационных работ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13840" y="1143000"/>
            <a:ext cx="89298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но к сдаче ГИА допускаются следующие обучающиеся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) участники ГИА, получившие на ГИА неудовлетворительные результа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олее чем по дву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бным предметам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астники ГИА, проходящие ГИА только по обязательным учебны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м и получившие на ГИА неудовлетворительный результат по одному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язательных учебных предметов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ившие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кзамен по уважительным причинам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участники ГИА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ершивш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экзаменационной работы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важительны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м (болезнь или иные обстоятельства), подтвержденным документально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участники ГИА, апелляции которых о нарушении Порядка апелляционно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ссией были удовлетворены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частники ГИА, чьи результаты были аннулированы по решению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я ГЭК в случае выявления фактов нарушений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56800" y="-360"/>
            <a:ext cx="78296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85840" y="1142640"/>
            <a:ext cx="8858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мся, не прошедшим ГИА или получившим на ГИА неудовлетворительные результаты более чем по двум учебным предметам, либо получившим повторно неудовлетворительный результат по одному или двум учебным предметам на ГИА в дополнительные сроки, предоставляется право пройти ГИА по соответствующим учебным предмета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анее 1 сентябр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его года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9725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ересдач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язательность ГИА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557000"/>
            <a:ext cx="8569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ctr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, завершающая освоение имеющих государственную аккредитацию основных образовательных программ основного общего образования, является обязательной. И является основанием считать выпускника завершившим уровень образования и основанием выдачи аттестатов об основном общем образовани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85520" y="1599840"/>
            <a:ext cx="790092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ИА признаются удовлетворительными в случае, если обучающийся по сдаваемым учебным предметам набрал минимальное количество баллов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291600" indent="-291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Получение аттестат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3348000" y="450864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7120" y="1071360"/>
            <a:ext cx="832968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е отметки за 9 класс по русскому языку, математике и двум учебным предметам, сдаваемым по выбору обучающегося, определя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реднее арифметическое годовой и экзаменационной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ок выпускника и выставляются в аттестат целыми числами в соответствии с правилами математического округления. По математике по 3 отметкам (годовые алгебра, геометрия, экзамен) По остальным предметам – годовая за 9 класс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680" y="274680"/>
            <a:ext cx="81151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Какие оценки в аттестат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 (РБД) – региональная информационная систем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го обучающегося – страница с персональными данными: перечень предметов, результаты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защищена. Право входа у ответственного за информационный обмен и лично у обучающегос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Информационная безопасность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ждому предмету ОГЭ в школе проводятся консультации и дополнительные занятия по подготовк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сещать ВЕСЬ год!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ВЫБОР ЭКЗАМЕНОВ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979640" y="3933720"/>
            <a:ext cx="53863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714680"/>
            <a:ext cx="846144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СПАСИБО ЗА ВНИМАНИЕ! Удачи на ОГЭ!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124000" y="3213000"/>
            <a:ext cx="53863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ВАРЬ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83628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И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итоговая аттестац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Э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ая экзаменацион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дметные комиссии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фликтная комиссия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ольно-измерительные материалы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ПЭ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ункт проведения экзамена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пелляция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дура обжалования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ПУСК К ГИА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052280"/>
            <a:ext cx="8785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ГИА допускаются обучающиеся, не имеющие академической задолженности, в полном объеме выполнившие учебный план или индивидуальный учебный план (имеющие годовые отметки по всем учебным предметам учебного плана за IX класс не ниже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ительных), а также имеющие результат «зачет» за итоговое собеседование по русскому языку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56000" y="4149720"/>
            <a:ext cx="523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Э – основной государственный экзамен, с использованием контрольных измерительных материалов, представляющих собой комплексы заданий стандартизированной форм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ОГЭ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ГИА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764640"/>
            <a:ext cx="8785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 КЛАСС (за курс основного общего образования)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Г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новной государственный экзамен (задания стандартизированной формы КИМ);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ВЭ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осударственный выпускной экзамен (письменная и устная форма: тексты, темы, задания, билеты) – </a:t>
            </a:r>
            <a:r>
              <a:rPr b="1" lang="ru-RU" sz="2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щадящий режим</a:t>
            </a:r>
            <a:r>
              <a:rPr b="0" lang="ru-RU" sz="2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Дети с ОВЗ, инвалиды – 2 обязательных экзамена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в форме ОГЭ и (или) ГВЭ включает в себя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замена по учебным предметам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ий язык» и «Математика»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язательные учебные предметы), двум учебным предметам по выбору участника ГИА из числа учебных предметов: </a:t>
            </a:r>
            <a:r>
              <a:rPr b="0" lang="ru-RU" sz="2600" spc="-1" strike="noStrike">
                <a:solidFill>
                  <a:srgbClr val="63891f"/>
                </a:solidFill>
                <a:latin typeface="Times New Roman"/>
                <a:ea typeface="Times New Roman"/>
              </a:rPr>
              <a:t>«Биология», «География», «Иностранные языки»(английский), «Информатика», «История», «Литература», «Обществознание», «Физика», «Химия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чебные предметы по выбору).</a:t>
            </a:r>
            <a:endParaRPr b="0" lang="en-US" sz="2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ЕДМЕТЫ   ГИА (9 класс)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1557360"/>
          <a:ext cx="8318520" cy="5394240"/>
        </p:xfrm>
        <a:graphic>
          <a:graphicData uri="http://schemas.openxmlformats.org/drawingml/2006/table">
            <a:tbl>
              <a:tblPr/>
              <a:tblGrid>
                <a:gridCol w="4581360"/>
                <a:gridCol w="373716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обязательные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0070c0"/>
                          </a:solidFill>
                          <a:uFillTx/>
                          <a:latin typeface="Times New Roman"/>
                          <a:ea typeface="Times New Roman"/>
                        </a:rPr>
                        <a:t>по выбору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Русский язы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 два экзамена по выбор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бществозн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форма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иоло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е язы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Picture 2" descr="F:\Новая папка\Копия%20gia_jpg[1].jpg"/>
          <p:cNvPicPr/>
          <p:nvPr/>
        </p:nvPicPr>
        <p:blipFill>
          <a:blip r:embed="rId1"/>
          <a:stretch/>
        </p:blipFill>
        <p:spPr>
          <a:xfrm>
            <a:off x="684360" y="3860640"/>
            <a:ext cx="32400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9280" y="765000"/>
            <a:ext cx="878544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7f7f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я с указанием учебных предметов, форм (формы) ГИА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а, на котором планируется сдавать экзамены, а также сроков участия в подаются до 1 марта включительно.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ча заявлений может быть организована с использованием информационно-коммуникационных технологий (дистанционно)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14716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Times New Roman"/>
                <a:ea typeface="Times New Roman"/>
              </a:rPr>
              <a:t>Заявление на ГИ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6:19:56Z</dcterms:created>
  <dc:creator>User</dc:creator>
  <dc:description/>
  <dc:language>en-US</dc:language>
  <cp:lastModifiedBy>Пользователь Windows</cp:lastModifiedBy>
  <cp:lastPrinted>2015-10-15T11:59:37Z</cp:lastPrinted>
  <dcterms:modified xsi:type="dcterms:W3CDTF">2023-09-28T08:16:40Z</dcterms:modified>
  <cp:revision>140</cp:revision>
  <dc:subject/>
  <dc:title>ЕГЭ 2014 г.</dc:title>
</cp:coreProperties>
</file>